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7C2-0E21-479F-A00A-C2A84615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AF9-DFE0-4BDB-B206-745C0B1A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2EA-C54E-47F9-B1E1-9A9BEC72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E60-46F5-4367-973A-3A30209C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904-96D3-4E80-985D-2F9C5375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886-8623-43E5-B0F7-4FAF0B0C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C38-4F22-4AB9-9399-89AAE145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C6E-96C1-46EB-B1D8-E745FA1E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2D9-44A2-4113-8B6E-E0D16EA6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D01-A5B5-48BA-BE8C-4612249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A4C-ED63-4003-B320-88C36F9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71C-E72C-4D47-9059-762AE0C3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0F52-D11F-4E8F-A910-68F4DDF41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ngsanaUPC"/>
              </a:rPr>
              <a:t>How Maori communic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ngsanaUPC"/>
              </a:rPr>
              <a:t>By Summer and Z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ngsanaUPC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 Maori can communicate by gr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Maori can communicate by a welcome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They put a note on a birds feet and send it o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ff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ngsanaUPC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ori fire to communicate by smoke it 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2:18:26Z</dcterms:created>
  <dc:creator>5d01</dc:creator>
  <dc:description/>
  <dc:language>en-US</dc:language>
  <cp:lastModifiedBy>5d01</cp:lastModifiedBy>
  <dcterms:modified xsi:type="dcterms:W3CDTF">2013-06-06T02:57:04Z</dcterms:modified>
  <cp:revision>2</cp:revision>
  <dc:subject/>
  <dc:title>How Maori communicate?</dc:title>
</cp:coreProperties>
</file>